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CAA-B60D-4301-A156-CA451504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3DB-EAA5-42E3-A228-763F0885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50E-1DDA-40E2-A2D5-FE0AD7DB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10B-44D0-4DC9-9B29-7395AAB6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D1A4-8940-4D30-9269-8E072F1D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FCF-83A3-4310-A6FA-16B2EAF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F8D7-0F65-4574-8DDE-935C85FC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4C72-04C8-4C4E-AEEC-1BF42383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B852-CF3C-49BE-BEE5-DD2C595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B131-4FF2-4169-8102-6E0DCAF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75BE-DBF2-4541-8B3A-699EDA53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B19-4FAB-4C9E-AFB2-C3421916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15E-D7AF-40E3-ADC1-350960B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68D2-E7EC-455C-8613-EAA654D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60DC-6B4C-4141-BF9C-9254BF9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5F76-E0FD-4CFF-97BC-D7795E82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B346-3329-430E-8327-55FEB6BB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0702-C2A0-4D85-8129-DAC2CB36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3C9C-6208-4665-8018-F02CF18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A0D1-E82A-4F23-A076-1932C9FB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6E46-9F1D-4C7B-913F-9EE8E958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95F8-722A-4807-B7CA-F06BF72B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C9E-1EC7-4C0B-AF9F-5ADAD83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2B69-FD3E-42D8-9049-DC29DF82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94CF-2E13-4F45-BACA-4970BE4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F077-8A68-4691-B09E-0F0DF0C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FB4E-4385-426A-95BD-B0D6210A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5F3A-D676-4D95-BE1C-48B1FC0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45E2-C3F7-4B7F-BBFD-FD946D7F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7499-8798-4F5E-9E3B-9DC3488B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D1982-8715-4109-9537-9BA5C549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7049-5EEA-45F8-B4D8-7932B55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EA0E-07D3-494B-9DCE-3E512F6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73E-681D-4B1F-BBAA-9B0DC60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1107-A132-4D38-A569-E9F0962A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D291-0146-4952-8DF5-9230A6D7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5FE4-A53D-4E03-8006-2A215D52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5653-DA76-4D01-9380-4FDF275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C43A-67B7-46CC-B1D9-B1F0299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D913-BD29-45FF-B507-7E2C6762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6358-ACD3-434A-8566-63AA301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7BA4-D210-4DCC-875B-286F62A1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DB21-A7C4-45EB-86FB-7253DE4D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3E3-6748-47CD-80B7-A211D62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4AF-EE31-4AAC-A3C8-918B0C42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DFB-8071-4D80-B3AD-185A95E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EA0-9A22-42BE-804D-0453D97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616-D717-436F-87B3-936AC671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3F0-5088-473A-996D-30B66F5E6D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5F2-CF7A-403A-B2AA-9C09329D651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6405-E2E2-4C0D-B13E-11EA8D76C3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946-7D2C-4939-9368-49FDC3153C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mestications.com/ProductS.asp?deptid=28000&amp;sid=468AE3001B3B617F&amp;subdeptid=28100&amp;product=A13380x&amp;R=13380D&amp;dept_id=28100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eb.hgtv.com/hgtv/designers_portfolio/portfolio/0,2159,HGTV_16257_1329,00.html?searchType=Portfolio&amp;Room=DP+ENTRYWAYS&amp;Style=&amp;Designer=&amp;SearchPositionIndex=15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eb.hgtv.com/hgtv/designers_portfolio/portfolio/0,2159,HGTV_16257_1316,00.html?searchType=Portfolio&amp;Room=DP+ENTRYWAYS&amp;Style=&amp;Designer=&amp;SearchPositionIndex=1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splayroom/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rchitecture.about.com/" TargetMode="External"/><Relationship Id="rId2" Type="http://schemas.openxmlformats.org/officeDocument/2006/relationships/hyperlink" Target="http://www.artsm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hg.com/bhg/story.jsp?storyid=/templatedata/bhg/story/data/1162332750843.xml&amp;catref=cat335000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hgtv.com/hgtv/designers_portfolio/portfolio/0,2159,HGTV_16257_128,00.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eb.hgtv.com/hgtv/designers_portfolio/portfolio/0,2159,HGTV_16257_1689,00.html?searchType=Portfolio&amp;Room=DP+LIVING+AREAS&amp;Style=&amp;Designer=&amp;SearchPositionIndex=2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eb.hgtv.com/hgtv/designers_portfolio/portfolio/0,2159,HGTV_16257_1506,00.html?searchType=Portfolio&amp;Room=DP+BEDROOMS&amp;Style=&amp;Designer=&amp;SearchPositionIndex=18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eb.hgtv.com/hgtv/designers_portfolio/portfolio/0,2159,HGTV_16257_1649,00.html?searchType=Portfolio&amp;Room=DP+KITCHENS&amp;Style=&amp;Designer=&amp;SearchPositionIndex=7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www.hgtv.com/hgtv/designers_portfolio/portfolio/0,2159,HGTV_16257_1318,00.html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www.hgtv.com/hgtv/designers_portfolio/portfolio/0,2159,HGTV_16257_234,00.html" TargetMode="External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hgtv.com/hgtv/designers_portfolio/portfolio/0,2159,HGTV_16257_537,00.html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architecture.about.com/od/periodsstyles/ig/House-Styles/saratoga-jc-3180005.htm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om/imgres?imgurl=http://www.fotosearch.com/comp/OMU/OMU118/01P0003.jpg&amp;imgrefurl=http://www.fotosearch.com/OMU118/01p0003/&amp;h=253&amp;w=300&amp;sz=20&amp;tbnid=i5VcmOLVdCRC_M:&amp;tbnh=98&amp;tbnw=116&amp;prev=/images%3Fq%3Dgreek%2Bcolumns%26um%3D1&amp;start=2&amp;sa=X&amp;oi=images&amp;ct=image&amp;cd=2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verythingfurniture.com/domain-sofa-set-1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chateaustone.com/mantels/index.php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crateandbarrel.com/family.aspx?c=1090&amp;f=22558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rateandbarrel.com/stoneware/dinnerware/1" TargetMode="External"/><Relationship Id="rId2" Type="http://schemas.openxmlformats.org/officeDocument/2006/relationships/hyperlink" Target="http://www.crateandbarrel.com/stoneware/dinnerware/1" TargetMode="External"/><Relationship Id="rId3" Type="http://schemas.openxmlformats.org/officeDocument/2006/relationships/hyperlink" Target="http://www.crateandbarrel.com/stoneware/dinnerware/1" TargetMode="External"/><Relationship Id="rId4" Type="http://schemas.openxmlformats.org/officeDocument/2006/relationships/hyperlink" Target="http://www.pier1.com/catalog/productdetail.aspx?oid=119505&amp;returnURL=http%3A%2F%2Fwww.pier1.com%2Fcatalog%2Fcollections.aspx%3Ffh_location%3D%2F%2Fpier1direct%2Fen_US%2Fcategories%3C%7B110299%7D%2Fcategories%3C%7B110341%7D%26fh_refpath%3Dfacet_59433428%26fh_start_index%3D0%26fh_view_size%3D8%26fh_view%3Dlister&amp;fh_location=//pier1direct/en_US/categories%3C%7B110299%7D/categories%3C%7B110341%7D&amp;fh_refpath=facet_59433428&amp;fh_start_index=0&amp;fh_view_size=8&amp;fh_view=lister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www.pier1.com/catalog/productdetail.aspx?oid=115820&amp;returnURL=http%3A%2F%2Fwww.pier1.com%2Fcatalog%2Fcollections.aspx%3Ffh_view_size%3D8%26fh_view%3Dlister%26fh_refpath%3Dfacet_59433428%26fh_location%3D%2F%2Fpier1direct%2Fen_US%2Fcategories%3C%7B110299%7D%2Fcategories%3C%7B110348%7D%26fh_eds%3D&#223;%26fh_start_index%3D8&amp;fh_view_size=8&amp;fh_view=lister&amp;fh_refpath=facet_59433428&amp;fh_location=//pier1direct/en_US/categories%3C%7B110299%7D/categories%3C%7B110348%7D&amp;fh_eds=&#223;&amp;fh_start_index=8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www.pier1.com/catalog/productdetail.aspx?oid=121979&amp;returnURL=http%3A%2F%2Fwww.pier1.com%2Fcatalog%2Fcollections.aspx%3Ffh_location%3D%2F%2Fpier1direct%2Fen_US%2Fcategories%3C%7B110300%7D%2Fcategories%3C%7B110352%7D%26fh_refpath%3Dfacet_59432454%26fh_start_index%3D0%26fh_view_size%3D8%26fh_view%3Dlister&amp;fh_location=//pier1direct/en_US/categories%3C%7B110300%7D/categories%3C%7B110352%7D&amp;fh_refpath=facet_59432454&amp;fh_start_index=0&amp;fh_view_size=8&amp;fh_view=lister" TargetMode="External"/><Relationship Id="rId9" Type="http://schemas.openxmlformats.org/officeDocument/2006/relationships/image" Target="../media/image25.jpeg"/><Relationship Id="rId10" Type="http://schemas.openxmlformats.org/officeDocument/2006/relationships/hyperlink" Target="http://www.pier1.com/catalog/productdetail.aspx?oid=121998&amp;returnURL=http%3A%2F%2Fwww.pier1.com%2Fcatalog%2Fgateway.aspx%3Ffh_location%3D%2F%2Fpier1direct%2Fen_US%2Fcategories%3C%7B110297%7D%26fh_refpath%3Dfacet_59232842&amp;fh_location=//pier1direct/en_US/categories%3C%7B110297%7D&amp;fh_refpath=facet_59232842" TargetMode="External"/><Relationship Id="rId11" Type="http://schemas.openxmlformats.org/officeDocument/2006/relationships/image" Target="../media/image26.jpeg"/><Relationship Id="rId12" Type="http://schemas.openxmlformats.org/officeDocument/2006/relationships/hyperlink" Target="http://www.countrycurtains.com/sdx/217088.jsp" TargetMode="External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0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ABCD"/>
          <p:cNvPicPr/>
          <p:nvPr/>
        </p:nvPicPr>
        <p:blipFill>
          <a:blip r:embed="rId2"/>
          <a:stretch/>
        </p:blipFill>
        <p:spPr>
          <a:xfrm>
            <a:off x="7162920" y="46483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iagonal lin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cate action and excitement. Appear as stairs, lampshades, cathedral ceilings, roof lines, fabrics and wallpap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A13380x_A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038480"/>
            <a:ext cx="2514600" cy="219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wiltgen_commonentry_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419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8" descr="vah_r1_staircase_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33520" y="1752120"/>
            <a:ext cx="3200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alistic Form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mmunicates  lifelike, traditional, and familiar feelings with obj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7" descr="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914400"/>
            <a:ext cx="1981080" cy="3040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vasesBlakBuk"/>
          <p:cNvPicPr/>
          <p:nvPr/>
        </p:nvPicPr>
        <p:blipFill>
          <a:blip r:embed="rId3"/>
          <a:stretch/>
        </p:blipFill>
        <p:spPr>
          <a:xfrm>
            <a:off x="6324480" y="42670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7"/>
          <p:cNvSpPr/>
          <p:nvPr/>
        </p:nvSpPr>
        <p:spPr>
          <a:xfrm>
            <a:off x="4403880" y="331632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-1023"/>
          <p:cNvSpPr/>
          <p:nvPr/>
        </p:nvSpPr>
        <p:spPr>
          <a:xfrm>
            <a:off x="0" y="0"/>
            <a:ext cx="214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bstract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earranges a recognizable object. The object has familiar traits,but altered. Used in contemporary sett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Geometric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uses squares, rectangles, circles and other geometric figures to create form. Communicates organization, order, and planning. Square tables, round lampshades, various pillo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ree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andom and flowing. Often found in nature (plants, stones, wood) with no sense of geometric design. This is untraditional, unfamiliar, and different from realistic 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Using For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n Hou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Form follows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 Related forms are more agreeable than unrelated for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A gradual change in form smoothly leads the ey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see page 246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ousing Decis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or more detai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ex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s to the way a surface feels or appears to fe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act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ow a surface actually feels to the touch. Described as smooth, rough, bumpy, grainy, porous, c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isual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exture that can be seen but not felt. Scenic wallpapers, fabric patterns, laminate flooring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igh Ma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space that is visually crowded. Too many patterns or lines. Feelings of being cluttered, too formal, he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ow Ma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space is simple and sparse. Only the essential items are in the room. Communicates a clean and airy sp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Housing Decisions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pages 241-24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architecture.about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artsmia.or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everythingfurniture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chateaustone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countrycurtains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pierone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crateandbarrel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domestications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hgtv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bhg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pyright  ©2007, ABCD, All rights reserve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Elements of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ne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xtu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ments of Design Cont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752120"/>
            <a:ext cx="4191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pace refers to the 3 dimensional area around or inside a form. It can communicate positive or negative feelin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7" descr="Play room with round blue white ru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765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 spaces can communicate feelings of openness and grandeur, but can also make a person feel small/lost/overwhelm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mall spaces can make one feel cozy, intimate, or comfortable, but can also be crowded due to number of people or furnis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ranging Sp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open or expand a space, use mirrors, expand the window area, or create half walls or totally remove wa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reate a cozy space, divide the space into separate areas using area rugs or clustering furniture into small groups (2 chairs and a small table, sofa and lovese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13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09" name="Rectangle 3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12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11" name="Rectangle 4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11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13" name="Rectangle 5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6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15" name="Picture 9" descr="jaivin_lr2_contemp_l_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7524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pier1_livingroom_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572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2" descr="woodrum_dh_bedroom_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4572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kohler_aaa20916_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05320" y="45720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70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20" name="Rectangle 60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9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22" name="Rectangle 61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Group 68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24" name="Rectangle 62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63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6" name="Picture 66" descr="wiltgen_bathroom3_d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81280" y="19810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81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28" name="Rectangle 71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80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30" name="Rectangle 72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79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32" name="Rectangle 73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74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4" name="Picture 77" descr="meyer_entry_04_d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943600" y="20574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Line: most basic element of desig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57400"/>
            <a:ext cx="4114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Vertical lin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perpendicular to the ground, cause the eye to move up and down. Suggest height, strength, dignity, and stabil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4" descr="vertical lines"/>
          <p:cNvPicPr/>
          <p:nvPr/>
        </p:nvPicPr>
        <p:blipFill>
          <a:blip r:embed="rId1"/>
          <a:stretch/>
        </p:blipFill>
        <p:spPr>
          <a:xfrm>
            <a:off x="6324480" y="1523880"/>
            <a:ext cx="2057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6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39" name="Rectangle 6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5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41" name="Rectangle 7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4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43" name="Rectangle 8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9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45" name="Picture 12" descr="berstler_flower2p68_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2670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9"/>
          <p:cNvSpPr/>
          <p:nvPr/>
        </p:nvSpPr>
        <p:spPr>
          <a:xfrm>
            <a:off x="3794040" y="2057400"/>
            <a:ext cx="1052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Stately, pillared Greek Revival homes reflect a passion for antiquity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71800" y="4343400"/>
            <a:ext cx="1676520" cy="148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http://www.fotosearch.com/OMU118/01p0003/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43400" y="1295280"/>
            <a:ext cx="1401840" cy="1349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mia_16519g"/>
          <p:cNvPicPr/>
          <p:nvPr/>
        </p:nvPicPr>
        <p:blipFill>
          <a:blip r:embed="rId8"/>
          <a:stretch/>
        </p:blipFill>
        <p:spPr>
          <a:xfrm>
            <a:off x="5181480" y="3886200"/>
            <a:ext cx="3276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rizontal lin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re parallel to the ground. They direct the eye across and convey feelings of relaxation, calmness, rest. Found in mantles, bookcases, long sofas, fabrics and wallpape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Domain Sofa Set in Alabaster (Cream) - Largo Furniture - 9869-S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ireplace Mant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809880"/>
            <a:ext cx="2008080" cy="243072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4">
            <a:hlinkClick r:id="rId5"/>
          </p:cNvPr>
          <p:cNvSpPr/>
          <p:nvPr/>
        </p:nvSpPr>
        <p:spPr>
          <a:xfrm>
            <a:off x="2568600" y="43876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urved Li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part of a circle that is natural and free flowing. These lines reflect organization, eternity and uniformity  as well as softness and freedom.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AutoShape 5">
            <a:hlinkClick r:id="rId2"/>
          </p:cNvPr>
          <p:cNvSpPr/>
          <p:nvPr/>
        </p:nvSpPr>
        <p:spPr>
          <a:xfrm>
            <a:off x="6723000" y="33130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>
            <a:hlinkClick r:id="rId3"/>
          </p:cNvPr>
          <p:cNvSpPr/>
          <p:nvPr/>
        </p:nvSpPr>
        <p:spPr>
          <a:xfrm>
            <a:off x="6723000" y="33130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7400" y="256716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3" descr="Bronze Crackle Ceramic Vas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038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1"/>
          <p:cNvSpPr/>
          <p:nvPr/>
        </p:nvSpPr>
        <p:spPr>
          <a:xfrm>
            <a:off x="887400" y="256716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5" descr="Vertical Dots Pillo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3372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3"/>
          <p:cNvSpPr/>
          <p:nvPr/>
        </p:nvSpPr>
        <p:spPr>
          <a:xfrm>
            <a:off x="887400" y="256716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7" descr="Elemental by Pier 1 Dinnerwar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3962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5"/>
          <p:cNvSpPr/>
          <p:nvPr/>
        </p:nvSpPr>
        <p:spPr>
          <a:xfrm>
            <a:off x="887400" y="242712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0" descr="Debbie by Pier 1 Dining Table Bas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100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5" descr="Narrow Ruffle Unbleached Muslin Curtain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2920" y="4191120"/>
            <a:ext cx="1371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37:02Z</dcterms:created>
  <dc:creator>vocats</dc:creator>
  <dc:description/>
  <dc:language>en-US</dc:language>
  <cp:lastModifiedBy>s.brooks</cp:lastModifiedBy>
  <dcterms:modified xsi:type="dcterms:W3CDTF">2010-09-21T13:49:59Z</dcterms:modified>
  <cp:revision>18</cp:revision>
  <dc:subject/>
  <dc:title>Elements of Design and Principles of Design</dc:title>
</cp:coreProperties>
</file>